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8C8-AE88-4CE6-9542-972B253B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1EA-D305-4AC4-971D-1577209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4FE-FD0C-40C7-AAEF-7A2060F7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D63-49FC-472C-BA9F-2E57BB37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D47-BD02-47B3-8CD1-069CCABA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A1C-4969-4F0A-B158-9B24E56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6FB-5DC9-4247-8097-B65451F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E36-8050-47B1-8F34-E147DF7A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6540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E36-D984-43D1-BFD7-141A84E4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85E-1E57-4CCA-8B4E-FD959F7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C3F-4FE1-4A4B-97F4-AF16AC8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2E9-1C91-464A-AE56-9D41481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-1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3280"/>
            <a:ext cx="28926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© K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3AA65-D64B-4E09-9771-BE2D28C50654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Terugkoppeling expertgro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27/10/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Maarten van den Bro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Onderwer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tie sectormodel en koppelv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Koppelvlak BAG-W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Aanpassing beheer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UML-modellering informatiemod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eer koppelvlak terugmelden (Cen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Behandelen RFC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Sectormodel / koppelvlak (1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-1626480" y="3799440"/>
            <a:ext cx="504504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984600" y="208656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554120" y="2017800"/>
            <a:ext cx="1619280" cy="49824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282040" y="1961280"/>
            <a:ext cx="1619280" cy="611280"/>
          </a:xfrm>
          <a:prstGeom prst="roundRect">
            <a:avLst>
              <a:gd name="adj" fmla="val 25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8840" y="1460520"/>
            <a:ext cx="3790800" cy="311040"/>
          </a:xfrm>
          <a:prstGeom prst="roundRect">
            <a:avLst>
              <a:gd name="adj" fmla="val 50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ontvangAsynchroon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10000" y="2087640"/>
            <a:ext cx="3779640" cy="287280"/>
          </a:xfrm>
          <a:prstGeom prst="roundRect">
            <a:avLst>
              <a:gd name="adj" fmla="val 55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eantwoordVraa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8840" y="2741760"/>
            <a:ext cx="3790800" cy="318960"/>
          </a:xfrm>
          <a:prstGeom prst="roundRect">
            <a:avLst>
              <a:gd name="adj" fmla="val 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verwerkSynchroneKennisgevin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759240" y="483300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stuf031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1263960" y="483300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bg0311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767240" y="483300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basis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03560" y="3983040"/>
            <a:ext cx="156672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03560" y="4775040"/>
            <a:ext cx="1566720" cy="45108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3560" y="5567400"/>
            <a:ext cx="156672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5920" y="3983040"/>
            <a:ext cx="204444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5920" y="4775040"/>
            <a:ext cx="2044440" cy="45108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95920" y="5567400"/>
            <a:ext cx="204444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1080" y="3987720"/>
            <a:ext cx="1104840" cy="270000"/>
          </a:xfrm>
          <a:prstGeom prst="roundRect">
            <a:avLst>
              <a:gd name="adj" fmla="val 58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1080" y="4775040"/>
            <a:ext cx="1104840" cy="246240"/>
          </a:xfrm>
          <a:prstGeom prst="roundRect">
            <a:avLst>
              <a:gd name="adj" fmla="val 64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2480" y="3078000"/>
            <a:ext cx="1440" cy="90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117920" y="4300200"/>
            <a:ext cx="326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7117920" y="5046480"/>
            <a:ext cx="326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1080" y="5567400"/>
            <a:ext cx="1104840" cy="282600"/>
          </a:xfrm>
          <a:prstGeom prst="roundRect">
            <a:avLst>
              <a:gd name="adj" fmla="val 56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117920" y="5873400"/>
            <a:ext cx="326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-1189800" y="3823560"/>
            <a:ext cx="5045040" cy="31248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90840" y="6227640"/>
            <a:ext cx="257472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Sectormodel / koppelvlak (2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88920" y="1619280"/>
            <a:ext cx="783108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50920" y="1800360"/>
            <a:ext cx="1189080" cy="315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48000" y="30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448000" y="39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448000" y="2158920"/>
            <a:ext cx="6265800" cy="81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-1993320" y="3796560"/>
            <a:ext cx="4630680" cy="276120"/>
          </a:xfrm>
          <a:prstGeom prst="roundRect">
            <a:avLst>
              <a:gd name="adj" fmla="val 574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174240" y="3365280"/>
            <a:ext cx="25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43400" y="3296520"/>
            <a:ext cx="2519280" cy="49824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64000" y="230364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99200" y="232416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-1595880" y="3778200"/>
            <a:ext cx="4630680" cy="31284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7760" y="5975280"/>
            <a:ext cx="257508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791040" y="257328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64000" y="316872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99200" y="318780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6791040" y="343836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21080" y="230364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1080" y="3168720"/>
            <a:ext cx="181764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4000" y="403236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9200" y="405288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6791040" y="426564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1080" y="403236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87400" y="477036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515760" y="534672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Spelregels 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bestaat uit kern +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ern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oevoegen koppelvlak → geen nieuwe versie, maar uitbr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oppelvlak ná toevoeging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xpertgroep beslist over toevoegen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82080"/>
            <a:ext cx="654372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oorstel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beheermodel aan en keur goed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in volgende regiegroep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Voeg koppelvlak BAG-WOZ toe in bg0310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structuur schema's aan als erratum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02-17T11:58:30Z</dcterms:modified>
  <cp:revision>3</cp:revision>
  <dc:subject/>
  <dc:title>Werkplan StUF 2010</dc:title>
</cp:coreProperties>
</file>